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9B73-4E59-46B2-8585-EC1841E5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E94F-CF5B-488E-B4A4-101D5B3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6A95-8014-4B32-80FC-1CE0EF9C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D603-1A7A-4EF6-A623-712D474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348A-A6BC-49E7-9899-DD3F69D0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BD7F-34F0-473D-AC32-EC81491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65A-39C3-495E-9906-E37DDB9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F20A-4B0D-413E-B2FA-51DA7CC7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6A32-23C0-425D-BB03-427E019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CA4F-E686-4663-B66E-14213A9E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B537-59DA-4410-8554-7A21F557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7C29-5D4E-4DD4-B77E-42A3D0E0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65E-AC8B-4194-9663-BC90B95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EE24-59BF-4F06-ACBD-0FC2FEF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BE1-E87E-4EFC-B9FE-D5224B3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D67-08FE-40F2-B7A5-CB23162F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E36D-5822-454D-9340-B12F90C0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607C-25ED-470F-A9CB-AC72950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FB67-2ED3-46E1-9651-27834CE4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3C74-9D83-4997-BE19-A7EF102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770A-BD68-489D-ADE8-1DAA1FA4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FCA6-FA94-43D0-9F88-47FC5DD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775E-FBCC-4523-A8A9-1816624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2941-992C-44BA-94CE-75AC6A1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96CC-913C-4231-8219-3E70BA2BE81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45FB-3032-470B-8B85-DE3EC8C8BAB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103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езопасно лежат без една стоте всички във кошара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ей, една заблудила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ижата пастирск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астирят все дири 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далеч върху стръмни планини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1793160"/>
            <a:ext cx="92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Дали деветдесет и девет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Ти стигат, Господи?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астирят дава отговор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на овца заблу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стръмни, тесни пътищ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ще търся Аз Моята овца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4886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ез дълбоки води и стръмен пъ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д без отдих я търс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де най-после Пастиря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ери овцата 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аса й чу в пустиня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когато бе близо при смърт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и капки от кръв, разпръсна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планински стръмен пъ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е и от що ли са след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ъвта са на Пастиря! Ранени са ръце, ноз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от остри бодили и тръни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о кога я намери, радостно завърна се Той дом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елете се с Мен заедно -намерих Моята овца!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нгелите пеят вс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"Господ е донесъл Своите Си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0:50Z</dcterms:modified>
  <cp:revision>66</cp:revision>
  <dc:subject/>
  <dc:title>Slide 1</dc:title>
</cp:coreProperties>
</file>